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carbrake.wav" ContentType="audio/x-wav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C0973AC-A8A0-4971-8D70-DDD6362F9C65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124654654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546546546546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780-28BC-4446-8E2C-4CACACF2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127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E7B-0281-4684-8136-00958D04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5F1-0C34-432F-9945-E4599A04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4CE-C748-497C-AE86-A233C33B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ED6F-89A0-4C0D-BA8E-149544C1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61E6-C2C2-4DB6-B03C-CDD2E482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1591-0C20-495A-A179-7C9D77F5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C38-9BA5-4C95-A6F8-77EEE25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D992-0D27-4FB7-ABE7-2DBE8A7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ACB0-56AF-43BE-A182-B219A4FB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8E2A-63CA-4571-A0F1-2440734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C3A-8C29-4FCF-9B8A-BD50B984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BA4-8CED-4B24-BF96-1207D60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1A8-9112-4513-8CA3-7B9FCC9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8127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2398-ADC9-4052-9093-2485A50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ED7-7D20-4C42-BEB7-AB49EB8E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8127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B1D5-DEA0-4531-8D76-7043C621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2E0-F2E6-4E34-92EE-AF17EDB3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0E3-22A4-4777-96EF-788CF5A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C7A-205F-4CB1-A208-80CB6D9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EA9-93EA-4C16-99B0-B4DB89ED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D20-23B6-43B6-ABC4-B4311AB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127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F3E-1D86-4C11-BBEE-3E7DC03F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127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102-CD7F-4986-BFBB-DCC2F1E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481960" y="237960"/>
            <a:ext cx="571680" cy="277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8520" y="1030320"/>
            <a:ext cx="8886960" cy="5586480"/>
          </a:xfrm>
          <a:prstGeom prst="roundRect">
            <a:avLst>
              <a:gd name="adj" fmla="val 164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2" marL="857160" indent="-171360">
              <a:lnSpc>
                <a:spcPct val="90000"/>
              </a:lnSpc>
              <a:spcBef>
                <a:spcPts val="6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3" marL="1143000" indent="-171360">
              <a:lnSpc>
                <a:spcPct val="90000"/>
              </a:lnSpc>
              <a:spcBef>
                <a:spcPts val="6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4" marL="1428840" indent="-171360">
              <a:lnSpc>
                <a:spcPct val="90000"/>
              </a:lnSpc>
              <a:spcBef>
                <a:spcPts val="6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5" marL="1428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6" marL="1428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2286000" y="65530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04B4-B5AA-4ECA-B95D-6DDC2D1DB656}" type="slidenum"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c6c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80880" y="654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2590920" y="65437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858000" y="654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248D-8568-4AF4-951C-A1497E0FB12C}" type="slidenum">
              <a:rPr b="0" lang="zh-TW" sz="900" spc="-1" strike="noStrike">
                <a:solidFill>
                  <a:srgbClr val="ffffff"/>
                </a:solidFill>
                <a:latin typeface="VonnesTTBook"/>
                <a:ea typeface="新細明體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3104640" y="2238480"/>
            <a:ext cx="56674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  <a:p>
            <a:pPr lvl="1" marL="34308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標楷體"/>
            </a:endParaRPr>
          </a:p>
          <a:p>
            <a:pPr lvl="2" marL="685800" algn="ctr">
              <a:lnSpc>
                <a:spcPct val="110000"/>
              </a:lnSpc>
              <a:spcBef>
                <a:spcPts val="451"/>
              </a:spcBef>
              <a:buClr>
                <a:srgbClr val="aab3b3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標楷體"/>
            </a:endParaRPr>
          </a:p>
          <a:p>
            <a:pPr lvl="3" marL="971640" algn="ctr">
              <a:lnSpc>
                <a:spcPct val="120000"/>
              </a:lnSpc>
              <a:spcBef>
                <a:spcPts val="400"/>
              </a:spcBef>
              <a:buClr>
                <a:srgbClr val="aab3b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標楷體"/>
            </a:endParaRPr>
          </a:p>
          <a:p>
            <a:pPr lvl="4" marL="1257480" algn="ctr">
              <a:lnSpc>
                <a:spcPct val="140000"/>
              </a:lnSpc>
              <a:spcBef>
                <a:spcPts val="349"/>
              </a:spcBef>
              <a:buClr>
                <a:srgbClr val="aab3b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標楷體"/>
            </a:endParaRPr>
          </a:p>
          <a:p>
            <a:pPr lvl="5" marL="12574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標楷體"/>
            </a:endParaRPr>
          </a:p>
          <a:p>
            <a:pPr lvl="6" marL="12574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tw/" TargetMode="External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3c6c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4840" y="2295000"/>
            <a:ext cx="63198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Powerpoint 2000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實務應用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184720" y="5260680"/>
            <a:ext cx="36021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9144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標楷體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標楷體"/>
              </a:rPr>
              <a:t>桔尚資訊行銷 專案經理</a:t>
            </a:r>
            <a:endParaRPr b="0" lang="en-US" sz="1800" spc="-1" strike="noStrike">
              <a:solidFill>
                <a:srgbClr val="ffffff"/>
              </a:solidFill>
              <a:latin typeface="標楷體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標楷體"/>
              </a:rPr>
              <a:t>上奇科技 資深講師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uise </a:t>
            </a:r>
            <a:r>
              <a:rPr b="0" lang="zh-TW" sz="1800" spc="-1" strike="noStrike">
                <a:solidFill>
                  <a:srgbClr val="ffffff"/>
                </a:solidFill>
                <a:latin typeface="標楷體"/>
              </a:rPr>
              <a:t>曹家豪 </a:t>
            </a:r>
            <a:endParaRPr b="0" lang="en-US" sz="1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講師經歷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6" name=""/>
          <p:cNvSpPr/>
          <p:nvPr/>
        </p:nvSpPr>
        <p:spPr>
          <a:xfrm>
            <a:off x="338040" y="1177920"/>
            <a:ext cx="6264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桔尚資訊行銷  專案經理   曹家豪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國立臺灣科技大學 畢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l: Cruise@good4u.com.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bile Phone No: 0915888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39360" y="3564000"/>
            <a:ext cx="59731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上奇科技股份有限公司       工程師以及 </a:t>
            </a:r>
            <a:r>
              <a:rPr b="0" lang="en-US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seminar </a:t>
            </a: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講師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桔尚資訊行銷               專案經理</a:t>
            </a:r>
            <a:r>
              <a:rPr b="0" lang="en-US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專案業務設計、規劃、執行</a:t>
            </a:r>
            <a:r>
              <a:rPr b="0" lang="en-US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原科網路科技               經理（資訊、多媒體規劃執行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台灣營建研究院研發組       助理研究員</a:t>
            </a:r>
            <a:r>
              <a:rPr b="0" lang="en-US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專案設計暨網路設計人員</a:t>
            </a:r>
            <a:r>
              <a:rPr b="0" lang="en-US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724630"/>
                </a:solidFill>
                <a:latin typeface="標楷體"/>
                <a:ea typeface="標楷體"/>
              </a:rPr>
              <a:t>並於  </a:t>
            </a:r>
            <a:r>
              <a:rPr b="1" lang="zh-TW" sz="2000" spc="-1" strike="noStrike">
                <a:solidFill>
                  <a:srgbClr val="724630"/>
                </a:solidFill>
                <a:latin typeface="標楷體"/>
                <a:ea typeface="標楷體"/>
              </a:rPr>
              <a:t>北台灣多所國小、智識家資訊、 校園文化、桃園陸軍總部、大亞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724630"/>
                </a:solidFill>
                <a:latin typeface="標楷體"/>
                <a:ea typeface="標楷體"/>
              </a:rPr>
              <a:t>腦、易禧多媒體科技 、何嘉仁電腦學校 等 </a:t>
            </a:r>
            <a:r>
              <a:rPr b="0" lang="zh-TW" sz="2000" spc="-1" strike="noStrike">
                <a:solidFill>
                  <a:srgbClr val="724630"/>
                </a:solidFill>
                <a:latin typeface="標楷體"/>
                <a:ea typeface="標楷體"/>
              </a:rPr>
              <a:t>擔任電腦講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講師作品與著作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9" name=""/>
          <p:cNvSpPr/>
          <p:nvPr/>
        </p:nvSpPr>
        <p:spPr>
          <a:xfrm>
            <a:off x="423720" y="1087560"/>
            <a:ext cx="3816360" cy="53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Tahoma"/>
                <a:ea typeface="新細明體"/>
              </a:rPr>
              <a:t>網站設計及程式設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廣義國際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賤貓官方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國民健康局 活動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遊戲人生 遠傳電信鈴聲下載活動網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金旺蔬果大盤承銷商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上捷信搬家公司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揚光管理顧問公司線上傳真系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OSIM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傲勝國際有限公司網站及上架機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色影科技廣告有限公司網站及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e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化製程系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易禧科技教育中心 兒童多媒體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原科網路科技有限公司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水利局 自來水利局省水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台灣營建研究院  研發組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q-wa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多媒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雅絲蔓美容化妝品公司膚質檢測管理系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原科網路科技有限公司 動工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新細明體"/>
              </a:rPr>
              <a:t>光碟製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統一集團 之統賀直銷公司 創業說明會光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智識家科技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Windows98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書籍互動動畫光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成星科技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NAMO5.5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書籍互動動畫光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成星科技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Windows XP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書籍互動動畫光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成星科技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FrongPage2000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書籍互動動畫光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6000" y="476280"/>
            <a:ext cx="414000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新細明體"/>
              </a:rPr>
              <a:t>CIS</a:t>
            </a:r>
            <a:r>
              <a:rPr b="1" lang="zh-TW" sz="2000" spc="-1" strike="noStrike">
                <a:solidFill>
                  <a:srgbClr val="333399"/>
                </a:solidFill>
                <a:latin typeface="Tahoma"/>
                <a:ea typeface="新細明體"/>
              </a:rPr>
              <a:t>設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岩杉美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SPA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專業女子美容揚光管理顧問公司 公司名片及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logo</a:t>
            </a: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設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智識家科技 書籍排版以及書籍封面設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香港阿官火鍋專家莊敬店 餐墊紙設計行銷活動海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華通健康理療館 名片、招牌設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韋克有限公司 網路行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隨身碟代理行銷海報設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99"/>
                </a:solidFill>
                <a:latin typeface="Tahoma"/>
                <a:ea typeface="新細明體"/>
              </a:rPr>
              <a:t>書籍製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文書雙響砲 我是文書全能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報告老師！我是網頁小博士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Namo 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報告老師！我是簡報小博士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Powerpoint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勞委會特殊橋樑及橋基施工安全技術手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  <a:ea typeface="新細明體"/>
              </a:rPr>
              <a:t>高雄市之高雄捷運抗腐蝕評估專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快速製作一份自己的簡報 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-1/5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用範本產生投影片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內容大綱精靈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開新的空白簡報檔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輸入文字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新增投影片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撥放投影片與結束撥放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存檔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61000" y="1427040"/>
            <a:ext cx="2849760" cy="2136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2"/>
          <a:srcRect l="26789" t="23808" r="31105" b="36309"/>
          <a:stretch/>
        </p:blipFill>
        <p:spPr>
          <a:xfrm>
            <a:off x="5746680" y="3794040"/>
            <a:ext cx="2751120" cy="233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編輯與操作簡報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-2/5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238400"/>
            <a:ext cx="46515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編輯文字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編輯投影片順序與呈現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投影片轉場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編輯轉場時間與聲音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9484" t="44254" r="18458" b="49614"/>
          <a:stretch/>
        </p:blipFill>
        <p:spPr>
          <a:xfrm>
            <a:off x="2449440" y="5589720"/>
            <a:ext cx="6053040" cy="44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7438" t="13890" r="12939" b="79953"/>
          <a:stretch/>
        </p:blipFill>
        <p:spPr>
          <a:xfrm>
            <a:off x="695160" y="4759200"/>
            <a:ext cx="7766280" cy="45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4563" t="6556" r="35712" b="37914"/>
          <a:stretch/>
        </p:blipFill>
        <p:spPr>
          <a:xfrm>
            <a:off x="4906800" y="1206360"/>
            <a:ext cx="38116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美化簡報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-3/5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投影片版面配置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設定文字格式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插入圖片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文字藝術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快取圖案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插入線條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647" t="12891" r="7438" b="25304"/>
          <a:stretch/>
        </p:blipFill>
        <p:spPr>
          <a:xfrm>
            <a:off x="5281560" y="1257480"/>
            <a:ext cx="2932200" cy="21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30503" t="12891" r="7438" b="25393"/>
          <a:stretch/>
        </p:blipFill>
        <p:spPr>
          <a:xfrm>
            <a:off x="5281560" y="3795840"/>
            <a:ext cx="2933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我的簡報動起來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-4/5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套用預設動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自訂動畫效果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動畫時間設定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動畫後隱藏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設定動畫移動路徑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預覽動畫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97320" y="1138320"/>
            <a:ext cx="3265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簡報的進階應用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</a:rPr>
              <a:t>-5/5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列印簡報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插入表格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有說服力的圖表及組織圖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個人化的母片設計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簡報上網去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插入影片與音樂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228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3977" t="20638" r="23065" b="26392"/>
          <a:stretch/>
        </p:blipFill>
        <p:spPr>
          <a:xfrm>
            <a:off x="5457960" y="3821040"/>
            <a:ext cx="3206520" cy="2405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31692" t="19250" r="6397" b="18664"/>
          <a:stretch/>
        </p:blipFill>
        <p:spPr>
          <a:xfrm>
            <a:off x="5429160" y="11635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57b"/>
            </a:gs>
            <a:gs pos="100000">
              <a:srgbClr val="6454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cc00"/>
                </a:solidFill>
                <a:uFillTx/>
                <a:latin typeface="標楷體"/>
                <a:hlinkClick r:id="rId1"/>
              </a:rPr>
              <a:t>簡報的進階應用-補充</a:t>
            </a:r>
            <a:endParaRPr b="0" lang="en-US" sz="2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頁首及頁尾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灰階檢視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設定備忘錄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從檔案插入投影片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插入超連結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背景、版面配置、色彩配置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ab3b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行距設定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巨集及會議記錄簿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23:28:56Z</dcterms:created>
  <dc:creator>Macromedia Inc.</dc:creator>
  <dc:description/>
  <dc:language>en-US</dc:language>
  <cp:lastModifiedBy>vivien</cp:lastModifiedBy>
  <dcterms:modified xsi:type="dcterms:W3CDTF">2005-05-03T03:39:31Z</dcterms:modified>
  <cp:revision>373</cp:revision>
  <dc:subject/>
  <dc:title>Slide 1</dc:title>
</cp:coreProperties>
</file>