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0F5-10FE-499A-B2DE-67488CF4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BD2-B5E4-430C-8B9B-FDD91421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270-A745-4EB1-AE0E-99A6BB8F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522-B169-4F1B-9319-C3C7A9F0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973B-3A83-4C07-8FA4-3C0E93D2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C86D-02C0-49EC-9F36-E5852155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74C3-28C9-412C-965A-B0D388C0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EACA-D462-4FA7-8299-559EE099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8BE7-F9B6-4BFF-9D8D-5EF47FA6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1DED-0BD0-4C8D-BF3E-02AE5B33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5FF2-4212-43C8-9A93-A0F31221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C10-10D4-4A60-BE3F-69045443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F70D-DEAB-462A-A37C-C679DAE0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85D9-AA56-4FEC-876F-DD666DDC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DFCC-7D11-4398-AC41-87F74DA4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8F53-03E6-4C15-9E05-ED9EB3F1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CB2D-7041-45F9-857F-B68E4091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7CC-3BEF-410C-B171-05FD3E2E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39E-F565-4A87-9D3D-84C6C9A7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CBF-F4BF-482A-B0BB-7CED0599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44C-5206-4E9B-AFF6-C4BCEEDC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3A1-BD8F-4128-96C9-294B2154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982-CDFC-4C42-B9B3-45870931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0684-A027-47E6-8AE8-B3842F66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1FDF-5284-4F5D-91DD-ED62B09AE2B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4280" y="1341360"/>
            <a:ext cx="4743720" cy="266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56000" y="1341360"/>
            <a:ext cx="4743720" cy="26676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7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C4A5-FB0C-422A-9B72-6E588C8FDB5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0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3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6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69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Arial"/>
              </a:rPr>
              <a:t>PowerPoint 2003</a:t>
            </a:r>
            <a:r>
              <a:rPr b="1" lang="zh-TW" sz="5400" spc="-1" strike="noStrike">
                <a:solidFill>
                  <a:srgbClr val="000000"/>
                </a:solidFill>
                <a:latin typeface="Arial"/>
              </a:rPr>
              <a:t>講義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主講人：郭淑慧老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kuocandice@gmail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連續性放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自動循環播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Arial"/>
              </a:rPr>
              <a:t>投影片放映／設定放映方式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點選「連續放映，按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鍵則停止」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部份放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Arial"/>
              </a:rPr>
              <a:t>投影片放映／自訂放映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輸入投影片放映名稱／再點選「新增」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挑選要放映的投影片／再按「新增」／確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Arial"/>
              </a:rPr>
              <a:t>欲放映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投影片放映／自訂放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點選要放映的投影片放映名稱／再點選「放映」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e by kuo,shu-hue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CDC-EA97-4952-9413-1A37B62497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隨身簡報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檔案／封裝成光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點選「選項」進行細部設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點選「新增檔案」可選取多個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檔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點選「複製到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」將之燒錄至光碟片中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若點選「複製到資料夾」可設定資料夾名稱及存放路徑，將簡報整個複製至該指定位置裡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e by kuo,shu-hu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524-487D-4840-A2E3-A6C7BBDF0DAB}" type="slidenum">
              <a:t>11</a:t>
            </a:fld>
          </a:p>
        </p:txBody>
      </p:sp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自動播放檔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3980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檔案／另存新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檔案類型改選「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播放檔」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e by kuo,shu-hu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07F-A1EC-4D8A-85C0-82D50C76C6C8}" type="slidenum">
              <a:t>12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系列軟體資源共享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3148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PowerPoint  </a:t>
            </a:r>
            <a:r>
              <a:rPr b="1" lang="zh-TW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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檔案／另存成網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PowerPoint  </a:t>
            </a:r>
            <a:r>
              <a:rPr b="1" lang="zh-TW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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 Exc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插入／物件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PowerPoint  </a:t>
            </a:r>
            <a:r>
              <a:rPr b="1" lang="zh-TW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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 Wo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檔案／傳送到／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Microsoft Office Wor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e by kuo,shu-hu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591-C01D-41E0-9A0E-023C60FB6429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製作簡報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Part.1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法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4431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空白簡報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4431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選取適當的版面配置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4431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輸入文字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4431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插入一張新的投影片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619280" indent="-4572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插入／新投影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4431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重覆步驟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2)-(4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408920" y="2401200"/>
            <a:ext cx="4624200" cy="3702960"/>
            <a:chOff x="4408920" y="2401200"/>
            <a:chExt cx="4624200" cy="3702960"/>
          </a:xfrm>
        </p:grpSpPr>
        <p:sp>
          <p:nvSpPr>
            <p:cNvPr id="113" name="_s3083"/>
            <p:cNvSpPr/>
            <p:nvPr/>
          </p:nvSpPr>
          <p:spPr>
            <a:xfrm>
              <a:off x="5249160" y="2401200"/>
              <a:ext cx="2944440" cy="2535840"/>
            </a:xfrm>
            <a:custGeom>
              <a:avLst/>
              <a:gdLst>
                <a:gd name="textAreaLeft" fmla="*/ 0 w 2944440"/>
                <a:gd name="textAreaRight" fmla="*/ 2944800 w 2944440"/>
                <a:gd name="textAreaTop" fmla="*/ 0 h 2535840"/>
                <a:gd name="textAreaBottom" fmla="*/ 2536200 h 253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80"/>
            <p:cNvSpPr/>
            <p:nvPr/>
          </p:nvSpPr>
          <p:spPr>
            <a:xfrm rot="7200000">
              <a:off x="5856480" y="2797920"/>
              <a:ext cx="2535480" cy="2944440"/>
            </a:xfrm>
            <a:custGeom>
              <a:avLst/>
              <a:gdLst>
                <a:gd name="textAreaLeft" fmla="*/ 0 w 2535480"/>
                <a:gd name="textAreaRight" fmla="*/ 2535840 w 2535480"/>
                <a:gd name="textAreaTop" fmla="*/ 0 h 2944440"/>
                <a:gd name="textAreaBottom" fmla="*/ 2944800 h 29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081"/>
            <p:cNvSpPr/>
            <p:nvPr/>
          </p:nvSpPr>
          <p:spPr>
            <a:xfrm rot="14400000">
              <a:off x="5049720" y="2797920"/>
              <a:ext cx="2535480" cy="2944440"/>
            </a:xfrm>
            <a:custGeom>
              <a:avLst/>
              <a:gdLst>
                <a:gd name="textAreaLeft" fmla="*/ 0 w 2535480"/>
                <a:gd name="textAreaRight" fmla="*/ 2535840 w 2535480"/>
                <a:gd name="textAreaTop" fmla="*/ 0 h 2944440"/>
                <a:gd name="textAreaBottom" fmla="*/ 2944800 h 29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078"/>
            <p:cNvSpPr/>
            <p:nvPr/>
          </p:nvSpPr>
          <p:spPr>
            <a:xfrm>
              <a:off x="6132240" y="4950720"/>
              <a:ext cx="118116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Arial"/>
                </a:rPr>
                <a:t>輸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3079"/>
            <p:cNvSpPr/>
            <p:nvPr/>
          </p:nvSpPr>
          <p:spPr>
            <a:xfrm>
              <a:off x="4732560" y="2866680"/>
              <a:ext cx="118116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Arial"/>
                </a:rPr>
                <a:t>插入新投影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3082"/>
            <p:cNvSpPr/>
            <p:nvPr/>
          </p:nvSpPr>
          <p:spPr>
            <a:xfrm>
              <a:off x="7527600" y="2865600"/>
              <a:ext cx="1180800" cy="10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Arial"/>
                </a:rPr>
                <a:t>選版面配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e by kuo,shu-hu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D93-152C-420C-9D02-E5CCFF110D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製作簡報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Part.2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方法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4431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空白簡報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4431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切換至標準模式左方的大綱位置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4431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輸入文字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4431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&lt;Tab&gt;(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降級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及</a:t>
            </a:r>
            <a:br>
              <a:rPr sz="2600"/>
            </a:b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&lt;Shift&gt;+&lt;Tab&gt;(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升級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調整文字位置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4431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變更版面配置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61928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投影片版面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e by kuo,shu-hu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6E5-F997-47BD-8DF0-8C97FB7EAC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製作簡報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Part.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方法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4431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Word v.s. PowerPoi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619280" indent="-45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檔案／傳送到／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19280" indent="-45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在大綱位置調整層級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文字位置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19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44316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先在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中調整好樣式</a:t>
            </a:r>
            <a:r>
              <a:rPr b="1" lang="zh-TW" sz="2100" spc="-1" strike="noStrike">
                <a:solidFill>
                  <a:srgbClr val="000000"/>
                </a:solidFill>
                <a:latin typeface="Arial"/>
              </a:rPr>
              <a:t>（標題一、標題二…</a:t>
            </a:r>
            <a:r>
              <a:rPr b="1" lang="zh-TW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476360" y="4797360"/>
            <a:ext cx="6481800" cy="1295640"/>
            <a:chOff x="1476360" y="4797360"/>
            <a:chExt cx="6481800" cy="1295640"/>
          </a:xfrm>
        </p:grpSpPr>
        <p:grpSp>
          <p:nvGrpSpPr>
            <p:cNvPr id="124" name=""/>
            <p:cNvGrpSpPr/>
            <p:nvPr/>
          </p:nvGrpSpPr>
          <p:grpSpPr>
            <a:xfrm>
              <a:off x="1476360" y="4797360"/>
              <a:ext cx="4155840" cy="1295640"/>
              <a:chOff x="1476360" y="4797360"/>
              <a:chExt cx="4155840" cy="1295640"/>
            </a:xfrm>
          </p:grpSpPr>
          <p:pic>
            <p:nvPicPr>
              <p:cNvPr id="125" name="" descr=""/>
              <p:cNvPicPr/>
              <p:nvPr/>
            </p:nvPicPr>
            <p:blipFill>
              <a:blip r:embed="rId1"/>
              <a:srcRect l="0" t="0" r="57392" b="83467"/>
              <a:stretch/>
            </p:blipFill>
            <p:spPr>
              <a:xfrm>
                <a:off x="1476360" y="4797360"/>
                <a:ext cx="4155840" cy="120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1476360" y="5229360"/>
                <a:ext cx="1439640" cy="86364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5653080" y="515772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TW" sz="2000" spc="-1" strike="noStrike">
                  <a:solidFill>
                    <a:srgbClr val="000000"/>
                  </a:solidFill>
                  <a:latin typeface="Arial"/>
                </a:rPr>
                <a:t>格式</a:t>
              </a:r>
              <a:r>
                <a:rPr b="1" lang="zh-TW" sz="2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Arial"/>
                </a:rPr>
                <a:t>樣式與格式</a:t>
              </a:r>
              <a:r>
                <a:rPr b="1" lang="zh-TW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e by kuo,shu-hu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C87-D5CE-46C9-9B54-A893ED3A74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物件之處理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Part.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55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503440"/>
                <a:tab algn="l" pos="2657520"/>
                <a:tab algn="l" pos="3986280"/>
                <a:tab algn="l" pos="5315040"/>
                <a:tab algn="l" pos="6643800"/>
                <a:tab algn="l" pos="7972560"/>
                <a:tab algn="l" pos="9301320"/>
                <a:tab algn="l" pos="1063008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文字藝術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2503440"/>
                <a:tab algn="l" pos="2657520"/>
                <a:tab algn="l" pos="3986280"/>
                <a:tab algn="l" pos="5315040"/>
                <a:tab algn="l" pos="6643800"/>
                <a:tab algn="l" pos="7972560"/>
                <a:tab algn="l" pos="9301320"/>
                <a:tab algn="l" pos="1063008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插入／圖片／文字藝術師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503440"/>
                <a:tab algn="l" pos="2657520"/>
                <a:tab algn="l" pos="3986280"/>
                <a:tab algn="l" pos="5315040"/>
                <a:tab algn="l" pos="6643800"/>
                <a:tab algn="l" pos="7972560"/>
                <a:tab algn="l" pos="9301320"/>
                <a:tab algn="l" pos="1063008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繪圖工具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2503440"/>
                <a:tab algn="l" pos="2657520"/>
                <a:tab algn="l" pos="3986280"/>
                <a:tab algn="l" pos="5315040"/>
                <a:tab algn="l" pos="6643800"/>
                <a:tab algn="l" pos="7972560"/>
                <a:tab algn="l" pos="9301320"/>
                <a:tab algn="l" pos="1063008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檢視／工具列／繪圖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503440"/>
                <a:tab algn="l" pos="2657520"/>
                <a:tab algn="l" pos="3986280"/>
                <a:tab algn="l" pos="5315040"/>
                <a:tab algn="l" pos="6643800"/>
                <a:tab algn="l" pos="7972560"/>
                <a:tab algn="l" pos="9301320"/>
                <a:tab algn="l" pos="1063008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資料庫圖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2503440"/>
                <a:tab algn="l" pos="2657520"/>
                <a:tab algn="l" pos="3986280"/>
                <a:tab algn="l" pos="5315040"/>
                <a:tab algn="l" pos="6643800"/>
                <a:tab algn="l" pos="7972560"/>
                <a:tab algn="l" pos="9301320"/>
                <a:tab algn="l" pos="1063008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插入／資料庫圖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073920" y="1600200"/>
            <a:ext cx="261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表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插入／表格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圖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插入／圖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e by kuo,shu-hue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BF9-EF55-4013-9F94-FDDBF158F179}" type="slidenum">
              <a:t>5</a:t>
            </a:fld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母片的應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檢視／母片／投影片母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Arial"/>
              </a:rPr>
              <a:t>插入標題母片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在「投影片母片檢視」工具列上點選「插入新標題母片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Arial"/>
              </a:rPr>
              <a:t>自訂母片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在「投影片母片檢視」工具列上點選「插入新的投影片母片」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設計完畫面後，關閉母片檢視，於「投影片設計」工作窗格內選取自訂之母片至所要的投影片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Arial"/>
              </a:rPr>
              <a:t>刪除母片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在「投影片母片檢視」工具列上點選「刪除母片」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e by kuo,shu-hu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709-72ED-40E9-AED0-76D56968E8B1}" type="slidenum">
              <a:t>6</a:t>
            </a:fld>
          </a:p>
        </p:txBody>
      </p:sp>
    </p:spTree>
  </p:cSld>
  <p:transition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動態簡報設計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投影片切換之動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投影片放映／投影片切換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投影片上物件之動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投影片放映／動畫配置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投影片放映／自訂動畫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e by kuo,shu-hu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C8F-98E4-4489-9552-DF63A3EC3141}" type="slidenum">
              <a:t>7</a:t>
            </a:fld>
          </a:p>
        </p:txBody>
      </p:sp>
    </p:spTree>
  </p:cSld>
  <p:transition spd="med">
    <p:strips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67 0.124 -0.16667 C 0.124 -0.07467 0.179 -0.00133 0.248 -0.00133 C 0.179 -0.00133 0.125 0.07467 0.125 0.16667 C 0.125 0.07467 0.069 0 0 0 Z">
                                      <p:cBhvr>
                                        <p:cTn id="8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多媒體影音特效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6360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加入音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插入／影片及聲音／從檔案插入聲音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投影片放映／自訂動畫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修改設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加入影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插入／影片及聲音／從檔案插入影片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投影片放映／自訂動畫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修改設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製作背景音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插入／影片及聲音／播放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樂曲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e by kuo,shu-hu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90F-2328-44F7-9601-E7A15370DEF6}" type="slidenum">
              <a:t>8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互動式播放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方法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Arial"/>
              </a:rPr>
              <a:t>選取範圍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Arial"/>
              </a:rPr>
              <a:t>插入／超連結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點選「這份文件中的位置」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點選要連結的投影片／確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方法二（製作「動作按鈕」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Arial"/>
              </a:rPr>
              <a:t>選取範圍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Arial"/>
              </a:rPr>
              <a:t>投影片放映／動作設定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點選「跳到」／點選「投影片」／選取要連結的投影片／確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e by kuo,shu-hue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363-7403-49FE-BCB2-DC52DDC7A5E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3:55:57Z</dcterms:created>
  <dc:creator>kk</dc:creator>
  <dc:description/>
  <dc:language>en-US</dc:language>
  <cp:lastModifiedBy>kuo</cp:lastModifiedBy>
  <dcterms:modified xsi:type="dcterms:W3CDTF">2006-03-29T15:11:32Z</dcterms:modified>
  <cp:revision>39</cp:revision>
  <dc:subject/>
  <dc:title>PowerPoint 2003講義</dc:title>
</cp:coreProperties>
</file>