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ABD-794E-4829-95DA-79A4B30B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AA2-D4C0-4A58-B696-93400DC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5B1-F0A1-445C-9DAF-10482B2F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E84-68F8-49A0-9E23-8F96B93F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E42-71AE-41FB-9768-0E2F3BE2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483-B986-4F30-A1F6-B42A7CB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031-6985-4BD6-A2D8-A9577226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05B-292E-44AB-86C6-F982B34B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4B7-E6CA-4479-8D30-DFED56B6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ED2-09AC-4475-9675-90F8587D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CA3-AE5F-4510-A802-3387502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AE0-2F65-4182-AA90-FFE6B3A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01F-35EE-40FA-9041-36C59E73FED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63.20.77.1/~spesmis/Pointpoint2003/pp2003.htm" TargetMode="External"/><Relationship Id="rId2" Type="http://schemas.openxmlformats.org/officeDocument/2006/relationships/hyperlink" Target="http://163.32.161.9/maylike/teach/powerpoint2003/index.htm" TargetMode="External"/><Relationship Id="rId3" Type="http://schemas.openxmlformats.org/officeDocument/2006/relationships/hyperlink" Target="http://video.ks.edu.tw/soft/02office/powerpoint2003/index.ht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amboo.hc.edu.tw/~shally/misc/pps.htm" TargetMode="External"/><Relationship Id="rId2" Type="http://schemas.openxmlformats.org/officeDocument/2006/relationships/hyperlink" Target="http://www.bamboo.hc.edu.tw/~shally/misc/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資    訊    科    學</a:t>
            </a:r>
            <a:br>
              <a:rPr sz="48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簡報製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年圖書館專業人員在職進修學分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會同各方面資料所作的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簡明報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通常為機關團體對上級視察或外賓參觀時使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教育部國語辭典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投影片、幻燈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如何完成簡報製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確定主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擬定腳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備妥相關資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簡報編輯與製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高架投影機：3M、Elmo、WolfVision或Liesegang？"/>
          <p:cNvPicPr/>
          <p:nvPr/>
        </p:nvPicPr>
        <p:blipFill>
          <a:blip r:embed="rId2"/>
          <a:stretch/>
        </p:blipFill>
        <p:spPr>
          <a:xfrm>
            <a:off x="4859280" y="2637000"/>
            <a:ext cx="404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各種簡報製作軟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Point @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ess @ OpenOffi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KPresenter @ K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@ Corel WordPerfect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lance @ Lotus Smart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, PDF, 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小畫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線上資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小朋友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163.20.77.1/~spesmis/Pointpoint2003/pp2003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教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163.32.161.9/maylike/teach/powerpoint2003/index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2003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製作軟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http://video.ks.edu.tw/soft/02office/powerpoint2003/index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建立簡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內容大綱精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設計範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投影片版面配置　</a:t>
            </a: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0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字格式設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文字方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文字對齊　　　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版面配置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投影片的編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新增、刪除、調整順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美化簡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色彩配置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設計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設定投影片背景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格式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背景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繪圖工具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調整大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群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設定快取圖案預設值  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鼠右鍵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3860640"/>
            <a:ext cx="1655640" cy="792360"/>
          </a:xfrm>
          <a:prstGeom prst="wedgeRoundRectCallout">
            <a:avLst>
              <a:gd name="adj1" fmla="val -42615"/>
              <a:gd name="adj2" fmla="val 92486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就是快取圖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797360"/>
            <a:ext cx="720720" cy="720720"/>
          </a:xfrm>
          <a:prstGeom prst="star5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專業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表格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標題及表格」版面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版面配置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格式設定與大小調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複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圖表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組織圖與其他圖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建立新相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多媒體簡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動畫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影片路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動作按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間的連結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超連結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投影片的切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插入音效及影片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插入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-&gt;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影片及聲音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72360" y="981000"/>
            <a:ext cx="720720" cy="719280"/>
          </a:xfrm>
          <a:prstGeom prst="star5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報的放映、儲存、列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放映　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[</a:t>
            </a:r>
            <a:r>
              <a:rPr b="0" lang="zh-TW" sz="2400" spc="-1" strike="noStrike">
                <a:solidFill>
                  <a:srgbClr val="c0c0c0"/>
                </a:solidFill>
                <a:latin typeface="Times New Roman"/>
              </a:rPr>
              <a:t>投影片放映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設定放映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排練計時、錄製旁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隨身簡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儲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ppt  .pp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bamboo.hc.edu.tw/~shally/misc/pp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的列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l</cp:lastModifiedBy>
  <dcterms:modified xsi:type="dcterms:W3CDTF">2006-11-16T18:17:52Z</dcterms:modified>
  <cp:revision>66</cp:revision>
  <dc:subject/>
  <dc:title>PowerPoint Presentation</dc:title>
</cp:coreProperties>
</file>