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F73-0623-45BA-A1BC-EBB7AE9D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2E4-6742-4736-945C-DFAABACE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4B6-1D8F-4DA5-A73C-FCD66577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50F-CA73-4EE8-A0E8-3B7C9744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743-2EF1-4444-A64C-2B585AA3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62F-B3D9-4584-87BF-A1D20405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7BC-D4EB-4E28-9B4B-19375C39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998-6E34-4888-945F-677A133C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E3B-BD99-4FF4-A255-DDDA8405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14D-EDB9-4718-8509-9C00FB59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490-75B0-4EB4-9E98-9283D6AD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FE8-D8D4-4ABB-A9BE-3E2D2F7D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288D-E7BC-4D8E-93DF-1E1B326DCC1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資    訊    科    學</a:t>
            </a:r>
            <a:br>
              <a:rPr sz="44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資料統計與分析</a:t>
            </a:r>
            <a:r>
              <a:rPr b="0" lang="zh-TW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試算表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readsh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年圖書館專業人員在職進修學分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公式與函數之使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公式之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儲存格參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函數之說明與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圖表的使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圖表簡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圖表精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圖表修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進階資料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資料排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資料篩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匯入外部資料（純文字、網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小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合併彙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試算表簡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試算表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是一種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表格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，裡面存放著資料或計算後的結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通常用來處理金融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)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資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優點：</a:t>
            </a: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計算速度快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避免出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重要功能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編輯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計算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自動重新計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製作圖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300px-OpenOffice_org_calc_2_screenshot" descr="Screenshot of a spreadsheet made with OpenOffice.org."/>
          <p:cNvPicPr/>
          <p:nvPr/>
        </p:nvPicPr>
        <p:blipFill>
          <a:blip r:embed="rId2"/>
          <a:stretch/>
        </p:blipFill>
        <p:spPr>
          <a:xfrm>
            <a:off x="4724280" y="3581280"/>
            <a:ext cx="3429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第一個試算表軟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Calc @ IBM 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VisiCalc_%28IBM_PC%27s_Killer_Application%29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各種試算表軟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 @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lc @ OpenOffic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numeric @ GNOME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Spread @ K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ttro Pro @ Corel WordPerfect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us 1-2-3 @ Lotus Smart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oogle Docs &amp; Spread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ocs_spreadsheets" descr=""/>
          <p:cNvPicPr/>
          <p:nvPr/>
        </p:nvPicPr>
        <p:blipFill>
          <a:blip r:embed="rId1"/>
          <a:stretch/>
        </p:blipFill>
        <p:spPr>
          <a:xfrm>
            <a:off x="6172200" y="5562720"/>
            <a:ext cx="1635120" cy="742680"/>
          </a:xfrm>
          <a:prstGeom prst="rect">
            <a:avLst/>
          </a:prstGeom>
          <a:ln w="0">
            <a:noFill/>
          </a:ln>
        </p:spPr>
      </p:pic>
      <p:pic>
        <p:nvPicPr>
          <p:cNvPr id="52" name="gnumeric-sample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30477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l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Spreadshe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tour1a" descr="Creating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線上資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 Excel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線上教材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C-16 (in Chinese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計算機概論十六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orial -- Exc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http://libai.math.ncu.edu.tw/bcc16/B/exce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中研院教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http://www.ascc.sinica.edu.tw/course/Excel/950718_excel2003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x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200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教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http://163.32.161.9/maylike/teach/excel2003/index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 2003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基本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http://www.lfes.tpc.edu.tw/tea/index_con_tea.php?tea_id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xcel2003sample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5676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00200" y="5943600"/>
            <a:ext cx="990720" cy="228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5943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工作表標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儲存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624852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列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1828800"/>
            <a:ext cx="990360" cy="40384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5181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Times New Roman"/>
              </a:rPr>
              <a:t>欄</a:t>
            </a:r>
            <a:r>
              <a:rPr b="0" lang="zh-TW" sz="2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lum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基本操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儲存格資料輸入、選取、複製、調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自動填滿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快速輸入資料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格式設定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手機號碼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框線設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工作表的設定與列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工作表之新增、移動、複製與命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格式化條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工作表保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版面與列印設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l</cp:lastModifiedBy>
  <dcterms:modified xsi:type="dcterms:W3CDTF">2006-11-09T12:04:44Z</dcterms:modified>
  <cp:revision>30</cp:revision>
  <dc:subject/>
  <dc:title>PowerPoint Presentation</dc:title>
</cp:coreProperties>
</file>